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F0E-FE7F-472B-BF66-AF5103B1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089-2805-4621-8D0C-900130C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331-02FC-41B3-91DA-671B84AA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997-9DC5-4AE3-B8B8-E23CF14B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3DF-1A30-4E96-AC4C-AC3CDDA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1FA-9030-428E-B182-6FAB818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731-230B-49BA-9E03-67169A2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845-2C02-4D04-9DFA-4F21FCE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568-7FDF-4225-AB93-A5DE141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0F8-09BB-4BA5-ABA1-617D53F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B4A-43B2-4EDD-9654-18C738A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5D6-47D4-461E-B3D4-9FC02EC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95A4-0C9B-40A5-BD7D-0D06ACD1C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dipo rey de Sófo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tragedia de Edipo expone la desesperación del hombre que se ve implicado en su propia investigación. Dando de esta manera referentes de investigación y aventuras en e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tes que componen la trag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plantea el confli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vida de los implicados se cru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cumple la predicción del oráculo con la muerte de La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 resuelve en enigma de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dipo comienza la investigación en la que más tarde verá que es el principal culp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enlace f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má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dipo-esfinge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89872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edipo_re_freud_medaglia_telepatia" descr=""/>
          <p:cNvPicPr/>
          <p:nvPr/>
        </p:nvPicPr>
        <p:blipFill>
          <a:blip r:embed="rId2"/>
          <a:stretch/>
        </p:blipFill>
        <p:spPr>
          <a:xfrm>
            <a:off x="5867280" y="3654360"/>
            <a:ext cx="3078360" cy="2967120"/>
          </a:xfrm>
          <a:prstGeom prst="rect">
            <a:avLst/>
          </a:prstGeom>
          <a:ln w="0">
            <a:noFill/>
          </a:ln>
        </p:spPr>
      </p:pic>
      <p:pic>
        <p:nvPicPr>
          <p:cNvPr id="50" name="42pic2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503440" cy="4291200"/>
          </a:xfrm>
          <a:prstGeom prst="rect">
            <a:avLst/>
          </a:prstGeom>
          <a:ln w="0">
            <a:noFill/>
          </a:ln>
        </p:spPr>
      </p:pic>
      <p:pic>
        <p:nvPicPr>
          <p:cNvPr id="51" name="lucha_edipo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2401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ferente en el 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sta tragedia con final abierto deja la resamantizacion de películas de aventuras e investigación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Recu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chica terr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safi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trix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99404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poderosaafrodita-300a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25794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07:45Z</dcterms:created>
  <dc:creator>eselza</dc:creator>
  <dc:description/>
  <dc:language>en-US</dc:language>
  <cp:lastModifiedBy>eselza</cp:lastModifiedBy>
  <dcterms:modified xsi:type="dcterms:W3CDTF">2010-04-18T15:16:26Z</dcterms:modified>
  <cp:revision>1</cp:revision>
  <dc:subject/>
  <dc:title>Edipo Rey</dc:title>
</cp:coreProperties>
</file>